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D4C-E262-4191-A549-7DC25C48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15D-B2D2-4A51-868B-969A9F15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939-59A8-4533-9F3E-44DBB4E9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F2F-0ED8-474D-ABA3-BD074C2D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12A25-D233-4710-8200-E207F341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C6569-EB99-423D-B985-7121B08A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FF272-058D-461A-BB23-73687ACE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50003-F96C-46E6-8A77-D03BC5AD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D131D-B7DD-4F11-8556-6444E184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61B0E-E814-4D94-987A-D14D5FB2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C2E3D-DB4F-4823-97F5-4F85D018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425-DE06-4E21-9A69-3F151BB3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5DC45-50C8-490F-AEEA-EA534A0F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CF0EF-11E2-4B7A-A3FA-2F9B4199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71D66-8A7B-4D39-BB27-B0F7C28D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620B9-ADBF-4881-9EA3-2B649113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F6B46-D88A-4534-A0BF-F8180547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A41-9311-4181-A5A1-156239A5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25C-D2E5-46CE-84D0-5C521A68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217-F3FD-4E36-BFA3-2444C28C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76F-9518-4BC8-93CE-114446CA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E90-8436-4208-90E0-DC5F3A1A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196-9B5A-4050-805E-EFDA8C38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AAC2-7D53-4C6D-93F1-CB41CA20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0BA7-8694-4148-9E68-F1E771F1AF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D32C-2A05-432F-BC74-76F6A82D37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1916280"/>
            <a:ext cx="84582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Did Goldilocks do the wrong thing?</a:t>
            </a:r>
            <a:br>
              <a:rPr sz="7200"/>
            </a:b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16000" y="429264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ear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gl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Topic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The topic: Goldilocks WAS a juvenile delinqu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Conduct your research, and determine the yes and no argu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Present your argu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Now change s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Drop the yes and no, and determine your group’s final response to the topi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eam analysi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instorm on your team’s efforts with a 2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. 1. What did we do we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. 2. What could we have done different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, revisit your criteria, and critically evaluate your work by responding to each of thos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gratulate each other on your work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Guiding Question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does ‘delinquent’ really mea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ould you have the potential to be a delinquent? (We hope not, but for the moment, we’re just exploring the options!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do you have in common with Goldilock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trategies we’ll use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2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-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enn 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inu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cademic controver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eam Self-Regulation?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t’s assume that your team is going to be sensation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could be the criteria for an analysis of your efforts e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gree of initiative / creativit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stantive listen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vel of engagem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ome background clarification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. What IS a ‘delinquent’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teams of 4, use an X-chart to clarify a ‘delinquent’. Write it out clear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 Shopping to collect some ideas from other group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n return and refine your own X-ch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uld YOU be a delinquent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aw up a SWOT analysis of your characte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ength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portun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rea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each, consider how the points you write could contribute to you becoming a delinqu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about YOU?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rm into pairs (wherever possib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aw up a 3-circle Venn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 your 2 names, and write Goldilocks’ name beside the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cir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topic is ‘Delinquency factors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lace at least one entry in each of the spa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1447560"/>
            <a:ext cx="813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th a continuum, stand on a line that goes from Yes to No. Was Goldilocks a delinqu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t ready to justify your s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nd someone who disagrees with you, and convince them with your argu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cademic Controversy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clarify our thinking, we’re going to take part in a type of deb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’s called Academic Controver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tep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Form into teams of 4, and appoint two ‘yes’ and two ‘no’ representa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Ryan</cp:lastModifiedBy>
  <dcterms:modified xsi:type="dcterms:W3CDTF">2007-05-01T10:24:21Z</dcterms:modified>
  <cp:revision>9</cp:revision>
  <dc:subject/>
  <dc:title>PowerPoint Presentation</dc:title>
</cp:coreProperties>
</file>